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437-6CD2-4135-A0E4-91E97998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21C-E3CF-4914-B442-4652F10E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969-AE18-4285-98AB-61F7505A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985-153B-4EE5-ABB4-35613448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012-E7C9-48D3-8FA6-EE3FE37C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A96-1AEC-4AB7-83E9-2EC23389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958-D847-43F4-85FD-8C0964C5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89F-A7B1-4F76-9269-D6E812B6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DD7-D532-4C31-B31B-60BFD947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2AF-12B1-430B-8BBF-7FF5AD84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50A-9C65-4CA5-A416-31562E8A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6F9-6224-4061-91E3-8D741D7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7FAE-B82E-4E45-80E6-D9382010D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tegrates multiple and mutually supportive farming system components OR builds new partnerships that will facilitate the longer-term RISING research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volves substantive collaboration between at least three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will complete reportable results that further the objectives of Feed the Future by September 30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ssing boundaries, one collaborator not a CG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partner invol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age with existing or previous initiatives, syner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s are known and mapp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igned with national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ilding partnership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 participatory diagnostics to determine concrete issues, develop action plans, design pilot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information baseline for impact assess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too broad/generic: need focus to be achiev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materials needed for next planting sea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ide proposals into numerical results versus steps towards networks/partnerships; consider research and development projects separat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-potential propos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1: Catalogue of crop varieties; aflatoxins literature review; catalogue of crop management options; off-season seed p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2: Inventory of system components; mapping of development actors. Would like to see this kind of process tied to a specific probl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3: Concerned that the important, strategic projects may not be easily reportable. Training farmers to produce certified seed; dissemination of post-harvest technologies; communication, technology transfer, and outreach strategies; nutrient-enhancing recipes in local languages; identification of networks that support extens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7:23:25Z</dcterms:created>
  <dc:creator>Windows User</dc:creator>
  <dc:description/>
  <dc:language>en-US</dc:language>
  <cp:lastModifiedBy>eleborgne</cp:lastModifiedBy>
  <dcterms:modified xsi:type="dcterms:W3CDTF">2012-02-09T10:59:21Z</dcterms:modified>
  <cp:revision>4</cp:revision>
  <dc:subject/>
  <dc:title>Early Wins</dc:title>
</cp:coreProperties>
</file>